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1D3-0EB1-4157-A6E3-911B3917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0FE-A636-4B0D-BF7A-61AF3D38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997-DCAF-468C-82B9-36DD2099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74E2-1316-4D74-8FCF-D7B51B7B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97A-0A8B-4C65-B114-467E9607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1A5-BCCB-4B08-A267-7CF34A8F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884-B727-49BC-B263-BDF2BEF0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7DAE-436F-4BAE-9B4D-08A6E08F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556-694E-426A-8113-9CACE84B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11B2-60C3-4D6E-860F-B7455EB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FA0-108F-48E5-97F2-FA1FAE8F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962-5E99-484B-9AEC-69E75674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A21D-137C-4C38-AA5B-3896024C0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854600"/>
            <a:ext cx="7315200" cy="114300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3405240"/>
            <a:ext cx="7315200" cy="139680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609480"/>
            <a:ext cx="7315200" cy="274320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96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 @  Plant and Animal Genome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948080" y="17604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316000" y="3874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54200" y="595440"/>
            <a:ext cx="695808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 Genomics with Galaxy: Analyze, Publish &amp; Visu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 1:30-2:30pm, California Room, Anton Nekrutenk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R: An easy to use genome annotation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turday, 3:50-6:00pm, California Room, Carson Hol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 Resources at the EBI: Ensembl (including BioM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8:15-9:15am, California Room, Bert Overdu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eneric Genome Browser: A Hands o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nday, 1:30-3:40pm, California Room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Gramene (including CMa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esday, 3:50-6:00pm, California Room, Ken Youens-Cla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10:20am-12:30pm, Pacific Salon 3, Sheldon McK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57960" y="3406680"/>
            <a:ext cx="68025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rojec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2:50-1:10pm, California Room, Dave Clements, Scott C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JBrowse Genome Browser with Large Amount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day, 1:10-1:30pm, California Room, Mitch Skin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al: A Construction Toolkit for Online Genomics 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dnesday, 2:30-2:50pm, California Room, Stephen Fick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174160" y="5235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5840" y="4835520"/>
            <a:ext cx="420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10-11:30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8: GBrowse and Next Generation Sequencing 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67000" y="5302080"/>
            <a:ext cx="3555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day 3-4:30p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59: Visualizing and Comparing Geno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861: Comparative Genomics Tools in G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6437160"/>
            <a:ext cx="1295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6520" y="601560"/>
            <a:ext cx="1377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-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zeG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Ge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 Ge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6491160"/>
            <a:ext cx="3429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6049800"/>
            <a:ext cx="7315200" cy="304920"/>
          </a:xfrm>
          <a:prstGeom prst="rect">
            <a:avLst/>
          </a:prstGeom>
          <a:solidFill>
            <a:srgbClr val="e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1560" y="6064200"/>
            <a:ext cx="452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at least 15 other talks and 19 more posters by GMOD us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535240" y="600300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5977080"/>
            <a:ext cx="9907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10-01-05T19:43:23Z</cp:lastPrinted>
  <dcterms:modified xsi:type="dcterms:W3CDTF">2010-01-05T19:48:47Z</dcterms:modified>
  <cp:revision>28</cp:revision>
  <dc:subject/>
  <dc:title>PowerPoint Presentation</dc:title>
</cp:coreProperties>
</file>